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062-13F5-472B-BB6F-802D49A0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0B5-F66F-40FA-B231-9F6622CE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FD0-12C8-4F6E-81B8-B7F3DDEC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7DE-1721-4EC9-817E-53878A3D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054-8E81-42DC-9AC6-C34EBB1D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413-A451-4E50-92C7-3478F1AB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601-AD06-4B9F-8A1F-0011244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452-9A9A-43F6-8EFE-7772988A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448-474E-4945-9038-891B8750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48E-5254-46F3-BDF1-83079039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9FB-86C5-467F-8579-7A6B5097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FF5-32CC-42D3-B45C-C9B71681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8930-3658-493C-B6F2-DF61EFFC6E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hider.ilri.org/handle/10568/2296/" TargetMode="External"/><Relationship Id="rId2" Type="http://schemas.openxmlformats.org/officeDocument/2006/relationships/hyperlink" Target="http://nilebdc.or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BDC plan 2012-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veloping Basin Level Learning Initiatives/Documentation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working papers coming out (se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lling team (N projects talk to each oth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platform well underway (3 meeting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level IPs with local fund &amp; moving fwd with meetings an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ly updated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interaction in peer assists and bey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ation of IP’s of use to all in CPW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interaction on the NBDC Ya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challenge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and documentation in NB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der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ilahun leaving ILRI/IWMI/CPWF, leaves many questions and interaction vo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P’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ransition in local level IP leader will take som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s 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nly international support, too little on-the-ground local &amp; networked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ar of losing more staf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end of project to achieve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eti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ime/focus) with other large programs sta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opportunitie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and documentation in NB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 work very useful to document – broader documentation of IP’s happening @ ILRI – many questions on links local-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esting work on exit strategy and wider engagement through national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drology work tying in with other IWMI/WLE and Africa RIS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ppy strategies and scenarios to identify best RWM strategies innovative and proving use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communication work so far – to document for other proje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on gender and equity – which informs WLE and on trade-offs (broader climate change and NRM agen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r questions about this initi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we pool resources most effectively to ensure we develop useful cross-cutting publications (across BDCs) without duplicating eff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12:39:32Z</dcterms:created>
  <dc:creator>eleborgne</dc:creator>
  <dc:description/>
  <dc:language>en-US</dc:language>
  <cp:lastModifiedBy>eleborgne</cp:lastModifiedBy>
  <dcterms:modified xsi:type="dcterms:W3CDTF">2012-09-03T07:48:50Z</dcterms:modified>
  <cp:revision>6</cp:revision>
  <dc:subject/>
  <dc:title>PowerPoint Presentation</dc:title>
</cp:coreProperties>
</file>